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97A-22F3-4B0B-9D83-693C7F95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949-E592-484A-BBA9-A6ADDAC6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80A-628B-4D69-B5F5-0BDDF8D3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9EE-4D26-4C77-8243-E5885354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34CB-0628-4BC5-84E2-001D624F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C9A-26FD-4A20-9424-C98FE8CC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739-E714-450D-B300-CDB00822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872-F3E0-422C-B0E3-C54DDAC4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A98-71F2-4029-B3E3-88F634D6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933-7A57-45A3-A8B7-C38C7CF5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1CF-F022-4E24-B200-63151E2B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6E9-D286-4656-BC55-B41C5D66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E86E-66A3-409B-92F6-EC0EAB5FC67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700360" y="2492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2-14T08:19:06Z</dcterms:modified>
  <cp:revision>813</cp:revision>
  <dc:subject/>
  <dc:title>Free PPT Backgrounds</dc:title>
</cp:coreProperties>
</file>